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8D3-6345-46CC-8A88-FE992EC3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D06-D571-4E04-8270-ABE0193B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3FB-A722-4A9B-84CC-676D9C35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894-067D-4161-8E5E-2DC5A2B1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3F3-AA6B-4A81-94C2-0FDFB34A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4E7-EB24-40A0-8173-CC01F292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481-F51D-4FF8-A62D-55F227C8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D82-D672-4F88-A3E2-A2A9BFF1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CF9-37C2-406C-BF3F-5EC131F1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E7A-6143-499F-897D-D949768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8DE-1296-42F5-A36D-3173306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AB4-1F89-4AAF-ABA8-1861433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3B01-EE2A-4B4F-B56A-9D3ABE89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roposal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. Tahir Na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location's and time schedule of activ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different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and ending dates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for individu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d timeline of th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 Write down the ti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chedule of the abov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 Calculate the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d for the abov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income 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dd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budget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budget by activities and cos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and form of own con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unders and sources of in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 make a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 of the implementing organization and part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2d1f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the implementing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capacity and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cooperative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partners capacity and cap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 give details of management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team And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2b89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ject coordin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method of the projec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trategy and practice with the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, Evaluation and follow-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a94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 criteria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and timing of monitoring and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plans and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 Identify performan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an Activit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2ddc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Breakup into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 sequence &amp;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 for each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tasks among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tt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4895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Week /Responsibility/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Week /Responsibility/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Week /Responsibility/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th Week /Responsibility/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</a:tr>
              <a:tr h="752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project proposal is a detailed description of a series of activities aimed at solving a certain problem. A proposal should contain a detailed explanation of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of a proj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nd implementation timel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, material and financial resource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Writing a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past &amp; prospective 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ast project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ast project evaluation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atist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small scale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community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basis (SWOT Analy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of SWOT analy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920"/>
            <a:ext cx="4038480" cy="4952880"/>
          </a:xfrm>
          <a:prstGeom prst="rect">
            <a:avLst/>
          </a:prstGeom>
          <a:solidFill>
            <a:srgbClr val="b9ece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, Ass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, Experi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ki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447920"/>
            <a:ext cx="4038480" cy="4952880"/>
          </a:xfrm>
          <a:prstGeom prst="rect">
            <a:avLst/>
          </a:prstGeom>
          <a:solidFill>
            <a:srgbClr val="82ddc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s in capabilities, Lack of competitive strength, Reputation, Finances, Reliability of data, Mor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380952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effects  Market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goal, objectives, and target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of th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goal and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ietal vision of the organization Expected short-term and long-term results Beneficiaries of th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solved by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raw Objec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a94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Aids Material Develop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tests in second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of colleg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s week at Universi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exhibition at col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training at schoo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 and main issues to be cov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chosen to realize the goal and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to be implemen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needs to continue th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: Write down the contents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bove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3:10Z</dcterms:created>
  <dc:creator>Tahir</dc:creator>
  <dc:description/>
  <dc:language>en-US</dc:language>
  <cp:lastModifiedBy>IUB-Admin</cp:lastModifiedBy>
  <dcterms:modified xsi:type="dcterms:W3CDTF">2016-11-16T19:40:05Z</dcterms:modified>
  <cp:revision>13</cp:revision>
  <dc:subject/>
  <dc:title>Project Proposal Writing</dc:title>
</cp:coreProperties>
</file>